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4.png" ContentType="image/png"/>
  <Override PartName="/ppt/media/image13.png" ContentType="image/png"/>
  <Override PartName="/ppt/media/image5.png" ContentType="image/png"/>
  <Override PartName="/ppt/media/password.wav" ContentType="audio/x-wav"/>
  <Override PartName="/ppt/media/image10.png" ContentType="image/png"/>
  <Override PartName="/ppt/media/image2.jpeg" ContentType="image/jpeg"/>
  <Override PartName="/ppt/media/image9.png" ContentType="image/png"/>
  <Override PartName="/ppt/media/buzzer.wav" ContentType="audio/x-wav"/>
  <Override PartName="/ppt/media/image6.png" ContentType="image/png"/>
  <Override PartName="/ppt/media/image11.png" ContentType="image/pn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CB61-81AB-49C0-9A83-54C0EE52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3D81-A8E6-4677-9A90-A21FBFD0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A52D-0243-4710-B498-B85ADF1E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0800-2A53-4926-B4AA-C236EAC5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7238880" cy="66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21A5-AB5A-4479-9110-B3EA5972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3370-9F5E-46D5-AB0D-09933748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06DA-B02E-48F0-8DE0-7CCF5637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4C0B-058D-4A00-8B65-03DD2BE7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7238880" cy="66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C07D-78F1-4AA8-B940-977C7851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4480-BB17-46AF-BB08-6BF8DA68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7534-DB7C-4F8C-8C09-14914E06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F498-F556-48DC-A9F0-39CE4A54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B85D-665D-437C-9664-A5C9A6CA3B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2514600" y="137160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2083" y="-29631"/>
                </a:moveTo>
                <a:arcTo wR="32000" hR="32000" stAng="-4068917" swAng="8137834"/>
                <a:moveTo>
                  <a:pt x="12083" y="29631"/>
                </a:moveTo>
                <a:arcTo wR="32000" hR="32000" stAng="4068917" swAng="41"/>
                <a:lnTo>
                  <a:pt x="12083" y="29632"/>
                </a:lnTo>
                <a:lnTo>
                  <a:pt x="12083" y="-29632"/>
                </a:lnTo>
                <a:lnTo>
                  <a:pt x="12083" y="-29631"/>
                </a:lnTo>
                <a:arcTo wR="32000" hR="32000" stAng="-4068958" swAng="41"/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3222720" y="304920"/>
            <a:ext cx="403884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994" y="-25753"/>
                </a:moveTo>
                <a:arcTo wR="32000" hR="32000" stAng="-3215387" swAng="6430773"/>
                <a:moveTo>
                  <a:pt x="18994" y="25753"/>
                </a:moveTo>
                <a:arcTo wR="32000" hR="32000" stAng="3215387" swAng="64"/>
                <a:lnTo>
                  <a:pt x="18994" y="25754"/>
                </a:lnTo>
                <a:lnTo>
                  <a:pt x="18994" y="-25754"/>
                </a:lnTo>
                <a:lnTo>
                  <a:pt x="18994" y="-25754"/>
                </a:lnTo>
                <a:arcTo wR="32000" hR="32000" stAng="-3215450" swAng="64"/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password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Vocabulary Review 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657600" y="4572000"/>
            <a:ext cx="2057400" cy="1863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5981760" cy="1562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passwor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21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22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41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60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79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8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97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98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8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20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up Directions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523520"/>
            <a:ext cx="7313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e a vocabulary word on each of the following 10 slides in the subtitle textbox.  When complete, run the show by pressing F5 on the keyboar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e student stands with back to this present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class gives the student clues to the vocabulary word onscreen as a clock keeps tim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tudent tries to guess the word before the buzz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6699"/>
                </a:solidFill>
                <a:latin typeface="Arial"/>
              </a:rPr>
              <a:t>Ready to play?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14600" y="2209680"/>
            <a:ext cx="441000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08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27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8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46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65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84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03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00:20:42Z</dcterms:created>
  <dc:creator>Connie Campbell</dc:creator>
  <dc:description/>
  <dc:language>en-US</dc:language>
  <cp:lastModifiedBy>Connie Campbell</cp:lastModifiedBy>
  <dcterms:modified xsi:type="dcterms:W3CDTF">2006-07-24T02:17:32Z</dcterms:modified>
  <cp:revision>8</cp:revision>
  <dc:subject/>
  <dc:title>Password</dc:title>
</cp:coreProperties>
</file>